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206A-5ED5-4730-88CD-41534D5F2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107-B32B-4100-8E6E-7F6474853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F4E-4E7B-4571-A0C8-76CFFE40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774-EDA0-41D1-B2E6-74881475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798-9F22-439F-A6B8-5F9620C8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B81-77BE-4FDB-A6D3-C1EAA3D8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8C9-74EB-4D62-9405-7BED9816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7F78-F929-4D20-B680-097D59D7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7D3A-99E5-40A0-B60D-C4A7F45F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5555-5685-431F-850A-DDAA2AF7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DDCE-7AAE-4A9D-A96A-A43D50B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7313-3C68-4E61-A927-B7693346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804-9150-4D33-83F6-84E47F3D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EA4-9451-4909-A5E5-74C18DC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3B67-53F8-4C67-A566-D59152DE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DAB-5CB3-47BF-9C10-11AC1B3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8BDF-B560-4477-BD1F-0922EBDA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ED95-9779-4BCD-AFD0-6EF7F75C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7D3-13DC-45B9-BE11-3278B4AB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9C4-53B6-4AEC-B761-50DDEFD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7B5-E0AE-4FC7-821E-2718754A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F3E-7087-4DA2-B20F-260C571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663-22D9-4517-9B32-470662B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029-7B33-44BD-9EA5-3C97A05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462-AE94-4B56-9F82-500433B6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B173-43B0-4612-A1C1-8C56DEB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4D6-B55D-4C99-9352-DCCCA1DDD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8c8cb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2AB9-B4D9-4EEC-8F3A-261A287B1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rcRect l="0" t="0" r="0" b="49700"/>
          <a:stretch/>
        </p:blipFill>
        <p:spPr>
          <a:xfrm>
            <a:off x="6429240" y="5403960"/>
            <a:ext cx="2714760" cy="1454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1880" y="213840"/>
            <a:ext cx="29908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Byw ym mhle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57120" y="1785960"/>
            <a:ext cx="820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Mae’r teulu Llwyd yn byw yn y fflat canol ar y llawr ucha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57120" y="2571840"/>
            <a:ext cx="8643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7030a0"/>
                </a:solidFill>
                <a:latin typeface="Comic Sans MS"/>
              </a:rPr>
              <a:t>Mae’r Morganiaid yn byw union uwchben y teulu J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57120" y="3071880"/>
            <a:ext cx="8207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b050"/>
                </a:solidFill>
                <a:latin typeface="Comic Sans MS"/>
              </a:rPr>
              <a:t>Os yw’r teulu Williams yn byw ar y llawr uchaf, maent yn byw drws nesaf i’r Morgania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8760" y="55720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 deulu sy’n byw ym mhob ffl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57120" y="4857840"/>
            <a:ext cx="757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ae’r teulu Roberts yn byw ar y llawr ucha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57120" y="3929040"/>
            <a:ext cx="8207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omic Sans MS"/>
              </a:rPr>
              <a:t>Mae’r teulu Davies yn byw i’r chwith o’r teulu Williams, unai ar y llawr top neu gwael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900000" cy="1014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57120" y="928440"/>
            <a:ext cx="832032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wn bloc o fflatiau, mae dau lawr gyda tri fflat ar bob llaw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3" descr=""/>
          <p:cNvPicPr/>
          <p:nvPr/>
        </p:nvPicPr>
        <p:blipFill>
          <a:blip r:embed="rId3"/>
          <a:stretch/>
        </p:blipFill>
        <p:spPr>
          <a:xfrm>
            <a:off x="7858080" y="4000680"/>
            <a:ext cx="10098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1T18:16:36Z</dcterms:created>
  <dc:creator>Carwyn</dc:creator>
  <dc:description/>
  <dc:language>en-US</dc:language>
  <cp:lastModifiedBy>Carwyn</cp:lastModifiedBy>
  <dcterms:modified xsi:type="dcterms:W3CDTF">2009-11-29T13:10:50Z</dcterms:modified>
  <cp:revision>9</cp:revision>
  <dc:subject/>
  <dc:title>Y tri olaf</dc:title>
</cp:coreProperties>
</file>